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AD1-D074-46C4-89DC-1C0B7CCC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4A3-F109-482B-8AD0-86AA7F5F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A64-F2BF-4453-A54A-54C1F3D1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726-0AA0-4FFA-9F3A-23DD0DBA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130-1462-42E4-A088-56D28433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ED6-E6EE-4BF2-B134-D7C22DCA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C70-C5EC-4DD4-ADB1-065AB3AF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1D3-A4BE-4C84-88A2-DF70D576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B0B0-4F76-4CD8-9ED6-053B6C8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F32D-B059-4B91-9528-BC520A74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520-48B8-41DC-AA23-24354493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642-9A46-45AB-B0C1-2DD3355F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1F1A-CD5E-473C-82E6-BDD914F8B77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85B-2DAC-4734-B991-A059AE781A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Fundamental Communications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Decibel as a Power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electronics, decibel is defined as a power rati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Decibel as a Voltage or Current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s and currents expressed as decibel relationships provided input and output impedances taken into accou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erence Lev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itself, the decibel has no absolute value; they represent ratios of powers, voltages, or curre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decibel measurements with explicit or implied reference can be expressed in terms of absolute val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roximating with Decib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e utility of decibels is their ability to provide quick approxim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-2: Common Decibel Relationshi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able 1-2: Common Decibel Relationship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5" descr="tab01_02.jpg"/>
          <p:cNvPicPr/>
          <p:nvPr/>
        </p:nvPicPr>
        <p:blipFill>
          <a:blip r:embed="rId1"/>
          <a:stretch/>
        </p:blipFill>
        <p:spPr>
          <a:xfrm>
            <a:off x="2209680" y="228600"/>
            <a:ext cx="4773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ge Gains and Lo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bel relationships useful for determining gains (or losses) through pieces of equipment with multiple stag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s frequency range over which a circuit or system oper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the bandwidth, greater the amount of information transferr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tley’s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tion transmitted directly proportional to product of bandwidth used and time of trans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o-frequency spectrum is a scarce and valuable public resour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derstanding Frequency Spect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ocations on spectrum of all frequencies produced as the result of modulation are what determine bandwidth of the modulated sign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ier: developed means to break down periodic waveforms into a series of sine and/or cosine waves at multiples of the fundamental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 and Frequency-Domain Represen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veform amplitude as a function of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cilloscope is a time-domain represen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 and Frequency-Domain Represen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dom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plitude viewed as function of frequency rather than of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trum analy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nals in frequency dom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s Systems and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 of any communication system is to transfer information from one point to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ystems consist of three element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mit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ei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nn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ast Fourier Trans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sion from time to frequency domain  approximated with fast Fourier transform (FF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orithm suited to computer-based implemen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allows for large number of calculations to be reduced to a manageable number through elimination of redunda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man-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used by electronic or mechanical devices operating in proximity to communications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mospher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used by natural phenomena occurring either within Earth’s atmosphere or in outer sp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rives from outer sp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ult of thermal interactions between free electrons and vibrating ions in a 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s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ot noise results from currents flowing within emitter-base/collector-base dio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noise eff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w-frequency effect (exces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-frequency noise (transit-ti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Designation and Calc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gnal-to-Noise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 of desired signal power to noise pow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Fig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ies exactly how noisy a device 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ctance Noise Eff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circuits do limit frequency response; significant effect on noise characteristic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Designation and Calc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Created by Amplifiers in Casc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iiss’s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all noise effect of multistage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Designation and Calc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quivalent Noise Tempera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of representing noise produced at output of real-world device or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generated by resistor placed at input to  noiseless amplifier with the same gain as device or system under consi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Designation and Calc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quivalent Noise Res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s represent noise generated by a device with a fictitious resistanc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roubleshooting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the right ques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ime to learn test equipment, its capabilities, and limi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 clear, up-to-date records of all changes made to equip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lace suspicious unit with known good o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ot a game plan or strateg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s Systems and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essing low-frequency voltages (information) onto high-frequency signal (carrier) for transmis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odulation or det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vering (separating) information from the high frequency carrie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sons Electronic Circuits Fa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 fail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mittent fa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system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ed fail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ubleshooting P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ptoms as clues to faulty s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 tracing and signal inj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 and resistance measu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s Systems and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s often sine waves; amplitude, frequency, and phase are the only characteristics of a sine-wave carrier that can be modif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romagnetic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etic fields surround moving electric charges (current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 and magnetic fields both result from voltage potentials and current fl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ic and magnetic fields form at right angles to each other and at right angles to direction of trave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romagnetic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itudes of both electric and magnetic fields are const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du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verts ener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ire range of signals occupying all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romagnetic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o frequ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heard by human e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o frequ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ove 50 kH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of sig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reless/physical med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romagnetic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s systems limited by two facto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ndwid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i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arith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bel (d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 of sound intensity; ratios related to sound pressure leve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arithms are ex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logarithm (antilo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e raised to that num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James Ramsey</cp:lastModifiedBy>
  <dcterms:modified xsi:type="dcterms:W3CDTF">2013-05-08T17:11:37Z</dcterms:modified>
  <cp:revision>2</cp:revision>
  <dc:subject/>
  <dc:title>Slide 1</dc:title>
</cp:coreProperties>
</file>